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30F-D942-40D1-9D67-C954EA75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4B4-69F2-4531-9893-C678B2DC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B02-0C80-42F4-A299-C25C4787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BCF-4146-4B55-8F06-C050B1A3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15E-56E4-47A8-9E6D-4AA95555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CFE-75E4-4D90-B710-6D0C6705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EDD-491A-4218-A59D-11D2B98D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C21-3994-4BD5-8687-C9738561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836-E2ED-453F-9234-7657DFEE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AD2-4404-491B-AFF6-E1DF1851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F6B-9195-4D92-A176-E9251EBB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6A6-8917-4965-81F4-D51A810E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D78-5EE4-43F3-BA5E-38F7D20E2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 drawing of a face&#10;&#10;Description automatically generated"/>
          <p:cNvPicPr/>
          <p:nvPr/>
        </p:nvPicPr>
        <p:blipFill>
          <a:blip r:embed="rId1"/>
          <a:stretch/>
        </p:blipFill>
        <p:spPr>
          <a:xfrm>
            <a:off x="1943280" y="0"/>
            <a:ext cx="5257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066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A group of people posing for a photo in front of a curtain&#10;&#10;Description automatically generated"/>
          <p:cNvPicPr/>
          <p:nvPr/>
        </p:nvPicPr>
        <p:blipFill>
          <a:blip r:embed="rId1"/>
          <a:stretch/>
        </p:blipFill>
        <p:spPr>
          <a:xfrm>
            <a:off x="1981080" y="2895480"/>
            <a:ext cx="5491440" cy="2514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00200" y="5867280"/>
            <a:ext cx="601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Top: Neil Gorsuch, Sonia Sotomayor, Elena Kagan, Brett Kavanaugh; Bottom:  Stephen Bryer, Clarence Thomas, Chief Justice John Roberts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Ruth Bader Ginsberg, Joseph Ali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Cou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UESTION is:  in what court will a case be he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SWER is:  it depends on the </a:t>
            </a:r>
            <a:r>
              <a:rPr b="0" i="1" lang="en-US" sz="2800" spc="-1" strike="noStrike">
                <a:solidFill>
                  <a:srgbClr val="990099"/>
                </a:solidFill>
                <a:latin typeface="Tahoma"/>
              </a:rPr>
              <a:t>jurisdiction: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  <a:ea typeface="Times New Roman"/>
              </a:rPr>
              <a:t>the scope and power of authority for each court</a:t>
            </a:r>
            <a:r>
              <a:rPr b="0" i="1" lang="en-US" sz="28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abellCH04"/>
          <p:cNvPicPr/>
          <p:nvPr/>
        </p:nvPicPr>
        <p:blipFill>
          <a:blip r:embed="rId1"/>
          <a:stretch/>
        </p:blipFill>
        <p:spPr>
          <a:xfrm>
            <a:off x="5029200" y="1905120"/>
            <a:ext cx="3733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s of Jurisdiction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deral vs. St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iminal vs. Civ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er vs.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 jurisdic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rt's authority to hear any case put before it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less it exclusively belongs to another cou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iginal jurisdiction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thority to consider a case in the first instance, try it and pass ju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ellate jurisdi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thority to review the judgments of the lower cou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deral 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429000" cy="457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ies crim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ars controvers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have occurred anywhere in the nation where a federal law has  been violat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ank robbery; mail theft; crossing state lin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572000" y="1905120"/>
            <a:ext cx="3962520" cy="14688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U.S. Supreme Cou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st Court in the nation.  Hears appeals from lower federal courts and state supreme courts.  Interprets federal law and the U.S. Constitution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4495680" y="3733920"/>
            <a:ext cx="4038840" cy="982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U.S. Courts of App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ar appeals from U.S. District Courts, broken down into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ircui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572000" y="5105520"/>
            <a:ext cx="3962520" cy="1225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U.S. District Cour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Original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jurisdiction to hear disputes involving federal laws.  D.V., if state lines cross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te Courts  --  Subject Matter or 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Original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urisd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d by T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minal  --  Felony, Misdemeanor, Traff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vil  --  Tort, Contract Dispu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mily  --  Divorce, Custody, D.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venile --Delinquency, Depend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te Courts  -- 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685800" y="1905120"/>
            <a:ext cx="7543800" cy="730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State Supreme Cou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Hears appeals from lower state courts, interprets state constit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2895480"/>
            <a:ext cx="7391160" cy="1496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ate Trial Cou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courts of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neral jurisdiction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ve the authority to try all cases, both civil and criminal.  In CA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uperi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urts.  Would generally include family and probate courts, courts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mited jurisdi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ver those mat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838080" y="4724280"/>
            <a:ext cx="7407360" cy="1584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unty (Municipal) Cou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v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mited origin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jurisdiction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or examp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hear only misdemeanor cases, civil cases of smaller value.  No longer have in CA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04:50:21Z</dcterms:created>
  <dc:creator>anesa c. cronin</dc:creator>
  <dc:description/>
  <dc:language>en-US</dc:language>
  <cp:lastModifiedBy>Kathi harper</cp:lastModifiedBy>
  <cp:lastPrinted>2019-10-23T22:01:38Z</cp:lastPrinted>
  <dcterms:modified xsi:type="dcterms:W3CDTF">2019-11-09T01:03:02Z</dcterms:modified>
  <cp:revision>17</cp:revision>
  <dc:subject/>
  <dc:title>CJ 462 Domestic Violence Instructor:  Anesa C. Cronin</dc:title>
</cp:coreProperties>
</file>